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B68-6D90-4678-928C-C30B5C00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493-DCA6-4964-B902-D8A64E5F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DE6-1BB1-4B05-BB24-112B2EB6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FDB-C9C6-4BAE-B4F1-C4EB2D35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951-737C-4154-97CA-66A6846B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DDA-E363-432A-96A9-E2F8AF90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65A-F100-4712-BCAA-F20C3068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118-EF74-4B30-9FFA-315AA4E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5C0-5FD2-419A-A32B-DACDAD81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4E5-5F26-4992-BECF-A76E2F2C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2A7-C729-47A7-831D-A9467DA8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0C6-04FC-4335-8F7E-B2B6688A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6483-E854-46CD-B97B-1015A051A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44880" y="11160"/>
            <a:ext cx="16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440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ST  FIFE  ASSOC.                     DUNFERMLINE  ASSOC.                     ABBEYVIEW                                     ABBEYVIEW                                   ABBEYVIEW                                ABBEYVIEW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OUR                               ABERDOUR  100TH                           BRITISH  ALCAN                 BEVERIDGE  PARK  PUBLIC               BEVERIDGE  PARK          BEVERIDGE  PARK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WHILL                                          BOWHILL                                          BOWHILL                                     BOWHILL  75TH                    BOWHILL  MILLENNIUM                         BROAD  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607080"/>
            <a:ext cx="1021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AD  STREET                       BROAD  STREET  10TH                            BURNTISLAND                             BURNTISLAND  100TH                       CHARLESTOWN                       CHARLESTOW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4520" y="333360"/>
            <a:ext cx="11332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0520" y="47628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073240" y="404640"/>
            <a:ext cx="1023840" cy="104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08880" y="47628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048520" y="260280"/>
            <a:ext cx="122580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31800" y="213372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144880" y="213372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57600" y="1989000"/>
            <a:ext cx="8780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537240" y="198900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7977240" y="2060640"/>
            <a:ext cx="124308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560520" y="371628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073240" y="37893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6681960" y="3716280"/>
            <a:ext cx="93312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8265960" y="371628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31800" y="5445000"/>
            <a:ext cx="93348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2073240" y="5516640"/>
            <a:ext cx="96984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3584520" y="54450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5168880" y="537372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6681960" y="537372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8121600" y="4941720"/>
            <a:ext cx="1298520" cy="163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3513240" y="40464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5168880" y="3716280"/>
            <a:ext cx="1122480" cy="104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3657600" y="3645000"/>
            <a:ext cx="1001880" cy="115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024520" y="2060640"/>
            <a:ext cx="11556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8:01:46Z</dcterms:created>
  <dc:creator>JOHN YOUNG</dc:creator>
  <dc:description/>
  <dc:language>en-US</dc:language>
  <cp:lastModifiedBy>JY</cp:lastModifiedBy>
  <cp:lastPrinted>2000-08-08T16:50:42Z</cp:lastPrinted>
  <dcterms:modified xsi:type="dcterms:W3CDTF">2005-12-12T11:00:31Z</dcterms:modified>
  <cp:revision>28</cp:revision>
  <dc:subject/>
  <dc:title>No Slide Title</dc:title>
</cp:coreProperties>
</file>